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F79-B7BA-4B8C-92A3-5F4796B1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1BB-8550-4F13-A100-A479C158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F27-7DFF-4F96-A4B7-7EB2EE36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6FB-4196-42CF-A940-5AB23794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6750-8F4B-4E7E-ADEA-911F8204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B28F-3F4B-48D9-8ADD-D9A81CBB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4A07-1C5C-4598-90F6-974655F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37A-F89C-423E-A8BC-E2CD2067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7B07-8E34-4CE2-9280-859921E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77D6-D608-407C-A2A1-4C8AE5BF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177-CEA9-49DA-B9F6-63B640AF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D73-8C6B-43C6-B13F-C6F0671F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7F8-9A45-4E43-9E58-50FD1FD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3C11-FE23-4BF9-BB5E-AC076FF0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7552-41ED-498A-9876-04020D71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1096-6BEC-4CB2-BEF9-14AE1690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F6E3-F652-4ED0-BE1E-DA710E7F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726-C5E6-4274-9A47-90ADBB58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AAF-C3AD-4446-AF94-5EBB152F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83D-07D9-47AE-B7D4-8A4A7F4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FF7-0B15-4229-8A3D-E8FD09AF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1E6-9608-48FF-A9E2-B78FC6E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DA7-AD8C-4303-804A-85794FBF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775-6E67-41A9-99B8-C07B70F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FEF3-FE7F-4155-BC12-1A42EA0F2C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86B2-A634-4CFE-A002-2E19952C1D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Hino_da_Independ&#234;ncia_do_Brasil" TargetMode="External"/><Relationship Id="rId2" Type="http://schemas.openxmlformats.org/officeDocument/2006/relationships/hyperlink" Target="http://pt.wikipedia.org/wiki/Hino_da_Independ&#234;ncia_do_Brasil" TargetMode="External"/><Relationship Id="rId3" Type="http://schemas.openxmlformats.org/officeDocument/2006/relationships/hyperlink" Target="http://letras.terra.com.br/evaristo-ferreira-da-veiga/716500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osta de atividade, esboço inicial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 nossa Pátria é nossa cas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lisabete Cano Sabino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052640"/>
            <a:ext cx="73134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curso digital: Computador, internet, impressora, aparelho de som, CD, máquina digit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cursos materiais: papel sulfite e  dicionári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ividades a serem desenvolvidas pelos alunos do 2º ano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Refletir sobre o que é ser patriota e o amor a Pátri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SQUISAS NA INTERNE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o da  Independência do Brasi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ídeos com o Hino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89298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ítes pesquisados pelos alun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1656720"/>
            <a:ext cx="788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scola.com/.../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inodaindependencia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ww.suapesquisa.com/.../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ino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dependencia_do_brasil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pt.wikipedia.org/wiki/Hino_da_Independ%C3%</a:t>
            </a:r>
            <a:r>
              <a:rPr b="0" lang="pt-BR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AAncia_do_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ttp://superdownloads.uol.com.br/download/37/hino-independencia-brasi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letras.terra.com.br/evaristo-ferreira-da-veiga/71650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26:38Z</dcterms:created>
  <dc:creator>sistema</dc:creator>
  <dc:description/>
  <dc:language>en-US</dc:language>
  <cp:lastModifiedBy>sistema</cp:lastModifiedBy>
  <dcterms:modified xsi:type="dcterms:W3CDTF">2009-09-23T14:24:53Z</dcterms:modified>
  <cp:revision>5</cp:revision>
  <dc:subject/>
  <dc:title>Proposta de atividade, esboço inicial</dc:title>
</cp:coreProperties>
</file>